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27A4-6500-4FD9-AB75-67396BC27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Google for Educator then tool for classroom then google then docs show wmv film on desktop of google docs and how they work</a:t>
            </a: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3B09-E29C-4004-820B-B6CF029DC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F0EE-5AB7-43D2-8FD5-1EBEE88CD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is comment about Twitter on his blog,and also show USB Video Twitter in plain Engl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007B-1DF4-438E-B7EB-5E4D5A81D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Machine is Using US from USB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hift Happe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y S Dum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g Johnson Copy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al Blogs  Shift Happens Shareski, Dean - Digital Learning Consultant, Saskatchewan, Canada  Click Home Nov 20 Alan Levine</a:t>
            </a: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6E88-71FC-4CA1-9D1A-A6F7F7542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81B8-403C-483A-8688-D8091F4BB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874D-1B63-440F-9244-D11CDDB74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Podcast Examples then podcast. Then scroll to Podcasting Laurie Bush then Intro to Podcasting Assig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73A00-D2C0-4B01-8873-9EAEFB00F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00035-57CD-4A07-8DE8-689D183C7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5053D-45D8-4525-B4B1-69F31E740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2E726-6514-4508-9482-C50DC7644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261DB7-FD19-4DA6-B443-8093EC6D1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99E01-170D-499E-9C70-BE2C3E07B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C676B-9D1B-4EA3-80B8-D92A1EA9B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0FB70-EBA4-4284-A25A-3BBF5C098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DC40B-5992-42D7-BE6D-E4F399BE9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02435-16B7-4574-AB8C-79C95C7E7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A2833-0997-45D2-99DB-CB0C17AB6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37429-8C66-4B37-9DE4-1AE72C436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8A889-5B26-4DF0-9929-876443DC6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3FE5A-D063-4F7E-BE28-DE5280C16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D193D-C84D-4FE9-B415-126396C82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2E1E3B-BB2D-4457-8CEA-53F21DA8C6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05E32-088C-4AC6-8882-042B8B61B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0FF83-8AEA-495C-BEA4-6D8AF8DD5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115C8-C4AE-4F33-A3D0-EA790B98A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1E674-37A8-492C-981E-18CB16EC0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D9D8B-66D5-40D3-9D7B-39B7ABF12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75C29-94F5-4BC5-B958-B0481D042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B71C6-7036-4C46-A77E-CCF20E6F8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0CF3C-A16E-4782-8CAC-F45989EF5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7892-3802-49DD-AC55-DA7748B60FA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D730-5F88-42AC-9F84-2B314DACA9D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google.com/educators/index.html" TargetMode="External"/><Relationship Id="rId2" Type="http://schemas.openxmlformats.org/officeDocument/2006/relationships/hyperlink" Target="http://earth.google.com/" TargetMode="External"/><Relationship Id="rId3" Type="http://schemas.openxmlformats.org/officeDocument/2006/relationships/hyperlink" Target="http://www.google.com/google-d-s/tour1.html"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flickr.com/explore/" TargetMode="External"/><Relationship Id="rId2" Type="http://schemas.openxmlformats.org/officeDocument/2006/relationships/hyperlink" Target="http://compfight.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oe.uh.edu/digitalstorytelling/introduction.htm" TargetMode="External"/><Relationship Id="rId2" Type="http://schemas.openxmlformats.org/officeDocument/2006/relationships/hyperlink" Target="http://www.tech-head.com/dstory.htm" TargetMode="External"/><Relationship Id="rId3" Type="http://schemas.openxmlformats.org/officeDocument/2006/relationships/hyperlink" Target="http://www.microsoft.com/windowsxp/using/digitalphotography/photostory/default.mspx" TargetMode="External"/><Relationship Id="rId4" Type="http://schemas.openxmlformats.org/officeDocument/2006/relationships/hyperlink" Target="http://digitalstorytelling.coe.uh.edu/photostory.html"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tipline.blogspot.co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reilly.com/pub/a/oreilly/tim/news/2005/09/30/what-is-web-20.html"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youtube.com/watch?v=NLlGopyXT_g" TargetMode="External"/><Relationship Id="rId2" Type="http://schemas.openxmlformats.org/officeDocument/2006/relationships/hyperlink" Target="http://www.youtube.com/watch?v=OhuV_rmf5Mg&amp;feature=related"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kathyschrock.net/blog/" TargetMode="External"/><Relationship Id="rId2" Type="http://schemas.openxmlformats.org/officeDocument/2006/relationships/hyperlink" Target="http://doug-johnson.squarespace.com/" TargetMode="External"/><Relationship Id="rId3" Type="http://schemas.openxmlformats.org/officeDocument/2006/relationships/hyperlink" Target="http://shifthappens.wikispaces.com/Education+Bloggers"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Main_Page" TargetMode="External"/><Relationship Id="rId2" Type="http://schemas.openxmlformats.org/officeDocument/2006/relationships/hyperlink" Target="http://educationalwikis.wikispaces.com/Articles+and+Resources" TargetMode="External"/><Relationship Id="rId3" Type="http://schemas.openxmlformats.org/officeDocument/2006/relationships/hyperlink" Target="http://cogdogroo.wikispaces.com/50+Ways"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k12handhelds.com/podcastexamples.php" TargetMode="External"/><Relationship Id="rId2" Type="http://schemas.openxmlformats.org/officeDocument/2006/relationships/hyperlink" Target="http://www.shambles.net/pages/learning/infolit/edupodcast/"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teachertube.com/" TargetMode="External"/><Relationship Id="rId2" Type="http://schemas.openxmlformats.org/officeDocument/2006/relationships/hyperlink" Target="http://www.teachertube.com/view_video.php?viewkey=0421f0a3b4f32e8312e3&amp;page=1&amp;viewtype=&amp;category=mr" TargetMode="External"/><Relationship Id="rId3" Type="http://schemas.openxmlformats.org/officeDocument/2006/relationships/hyperlink" Target="http://www.teachertube.com/view_video.php?viewkey=3375828c54"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6000"/>
            <a:ext cx="7623360" cy="1752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                </a:t>
            </a:r>
            <a:r>
              <a:rPr b="0" lang="en-US" sz="5000" spc="-1" strike="noStrike">
                <a:solidFill>
                  <a:srgbClr val="006633"/>
                </a:solidFill>
                <a:latin typeface="Garamond"/>
              </a:rPr>
              <a:t>Web 2.0</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5181120" y="4876920"/>
            <a:ext cx="3962520" cy="13716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Arial"/>
              </a:rPr>
              <a:t>Cindy DiDon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ogle</a:t>
            </a:r>
            <a:endParaRPr b="0" lang="en-US" sz="4200" spc="-1" strike="noStrike">
              <a:solidFill>
                <a:srgbClr val="006633"/>
              </a:solidFill>
              <a:latin typeface="Garamond"/>
            </a:endParaRPr>
          </a:p>
        </p:txBody>
      </p:sp>
      <p:sp>
        <p:nvSpPr>
          <p:cNvPr id="112" name="PlaceHolder 2"/>
          <p:cNvSpPr>
            <a:spLocks noGrp="1"/>
          </p:cNvSpPr>
          <p:nvPr>
            <p:ph/>
          </p:nvPr>
        </p:nvSpPr>
        <p:spPr>
          <a:xfrm>
            <a:off x="1752480" y="167616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Google for Educato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2"/>
              </a:rPr>
              <a:t>Google Earth</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3"/>
              </a:rPr>
              <a:t>Google Doc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lickr</a:t>
            </a:r>
            <a:endParaRPr b="0" lang="en-US" sz="4200" spc="-1" strike="noStrike">
              <a:solidFill>
                <a:srgbClr val="006633"/>
              </a:solidFill>
              <a:latin typeface="Garamond"/>
            </a:endParaRPr>
          </a:p>
        </p:txBody>
      </p:sp>
      <p:sp>
        <p:nvSpPr>
          <p:cNvPr id="114" name="PlaceHolder 2"/>
          <p:cNvSpPr>
            <a:spLocks noGrp="1"/>
          </p:cNvSpPr>
          <p:nvPr>
            <p:ph/>
          </p:nvPr>
        </p:nvSpPr>
        <p:spPr>
          <a:xfrm>
            <a:off x="914400" y="13712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Explore </a:t>
            </a:r>
            <a:r>
              <a:rPr b="0" lang="en-US" sz="3000" spc="-1" strike="noStrike">
                <a:solidFill>
                  <a:srgbClr val="000000"/>
                </a:solidFill>
                <a:latin typeface="Arial"/>
              </a:rPr>
              <a:t>Flick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urce of images for present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free images at Flick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996600"/>
                </a:solidFill>
                <a:uFillTx/>
                <a:latin typeface="Arial"/>
                <a:hlinkClick r:id="rId2"/>
              </a:rPr>
              <a:t>http://compfight.co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ck off Creative Commons Licens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en you search to get free phot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ometimes with attribution requiremen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gital Storytelling</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1"/>
              </a:rPr>
              <a:t>Educational Uses of Digital Storytelli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2"/>
              </a:rPr>
              <a:t>Hilary McLellan's Story Link</a:t>
            </a:r>
            <a:br>
              <a:rPr sz="2600"/>
            </a:br>
            <a:r>
              <a:rPr b="0" lang="en-US" sz="2600" spc="-1" strike="noStrike">
                <a:solidFill>
                  <a:srgbClr val="000000"/>
                </a:solidFill>
                <a:latin typeface="Arial"/>
              </a:rPr>
              <a:t>Hillary has posted one of the most extensive and up-to-date collections of links on Digital Storytelling available online.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3"/>
              </a:rPr>
              <a:t>Photostory3</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4"/>
              </a:rPr>
              <a:t>Photostory3 Tutorial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 Learning Photostory3 Tutori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tipline.blogspot.com/</a:t>
            </a:r>
            <a:r>
              <a:rPr b="0" lang="en-US" sz="3000" spc="-1" strike="noStrike">
                <a:solidFill>
                  <a:srgbClr val="000000"/>
                </a:solidFill>
                <a:latin typeface="Arial"/>
              </a:rPr>
              <a:t> - Jim Gates' tips of the day.  This guy is doing some cool things in education with technology.  Check out his tip on Twitter.  Here is an explanation of what twitter is all about. (Twitter in Plain English - http://www.commoncraft.com/Twitt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re Cool Tools </a:t>
            </a:r>
            <a:endParaRPr b="0" lang="en-US" sz="4200" spc="-1" strike="noStrike">
              <a:solidFill>
                <a:srgbClr val="006633"/>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re Cool Tools 2</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slideshare.net/ - Slide share is a cool tool.  It lets you import a powerpoint to be turned into a small flash-based powerpoint viewer and then it gives you the code to add it to your webpage</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re Cool Tools 3</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http://www.solutionwatch.com/368/fifty-ways-to-take-not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 list of sites that will let you take notes and store them online.  Before we panic, lets think about how that can change the classrooms of the future...Very powerful potenti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re Cool Tools 4</a:t>
            </a:r>
            <a:endParaRPr b="0" lang="en-US" sz="42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mind42.com/ - Keep track of all your ideas, whether alone, with colleagues and friends or working together with the whole world. mind42.com is a browser based online mind mapping application. With mind42.com installing mindmapping tools is no longer needed- for a hassle-free mindmapping experience. Just open the browser and launch the application when needed</a:t>
            </a:r>
            <a:endParaRPr b="0" lang="en-US" sz="3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re Cool Tools 5</a:t>
            </a:r>
            <a:endParaRPr b="0" lang="en-US" sz="42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ttp://www.yackpack.com/ - "YackPack connects group members with live talk and voice messages. It's convenient and simple to use -- no installation needed.</a:t>
            </a:r>
            <a:r>
              <a:rPr b="1" lang="en-US" sz="2400" spc="-1" strike="noStrike">
                <a:solidFill>
                  <a:srgbClr val="000000"/>
                </a:solidFill>
                <a:latin typeface="Arial"/>
              </a:rPr>
              <a:t> </a:t>
            </a:r>
            <a:r>
              <a:rPr b="0" lang="en-US" sz="2400" spc="-1" strike="noStrike">
                <a:solidFill>
                  <a:srgbClr val="000000"/>
                </a:solidFill>
                <a:latin typeface="Arial"/>
              </a:rPr>
              <a:t>Get your members talking with YackPack.</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voice to build relationships &amp; motivate to action.</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t YackPack on your own website. YackPack helps educators motivate students &amp; give quality feedback.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ice helps you communicate clearly with students &amp; parents. Use rich audio to connect friends &amp; family. Share stories in your own voice. Save audio messages to enjoy for years to co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7" name="TextBox 2"/>
          <p:cNvSpPr/>
          <p:nvPr/>
        </p:nvSpPr>
        <p:spPr>
          <a:xfrm>
            <a:off x="1219320" y="990720"/>
            <a:ext cx="6858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the Using Tech Wiki for a copy of this PowerPoi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066680" y="1066680"/>
            <a:ext cx="7086600" cy="46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812f"/>
                </a:solidFill>
                <a:latin typeface="Arial"/>
              </a:rPr>
              <a:t>        </a:t>
            </a:r>
            <a:r>
              <a:rPr b="1" lang="en-US" sz="3200" spc="-1" strike="noStrike">
                <a:solidFill>
                  <a:srgbClr val="3b812f"/>
                </a:solidFill>
                <a:latin typeface="Arial"/>
              </a:rPr>
              <a:t>Web 1.0 versus Web 2.0</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Arial"/>
              </a:rPr>
              <a:t>Double Click------------------------------------Adsen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Arial"/>
              </a:rPr>
              <a:t>Kodak Gallery of Photos-----------------------Flick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Arial"/>
              </a:rPr>
              <a:t>Britannica Online----------------------------Wikipedi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Arial"/>
              </a:rPr>
              <a:t>Personal Website----------------------------------Blo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Arial"/>
              </a:rPr>
              <a:t>Publishing---------------------------------Particip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380880" y="0"/>
            <a:ext cx="8229600" cy="6172200"/>
          </a:xfrm>
          <a:prstGeom prst="rect">
            <a:avLst/>
          </a:prstGeom>
          <a:ln w="0">
            <a:noFill/>
          </a:ln>
        </p:spPr>
      </p:pic>
      <p:sp>
        <p:nvSpPr>
          <p:cNvPr id="97" name="Text Box 5"/>
          <p:cNvSpPr/>
          <p:nvPr/>
        </p:nvSpPr>
        <p:spPr>
          <a:xfrm>
            <a:off x="0" y="624852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 O'Reilly ‘s </a:t>
            </a:r>
            <a:r>
              <a:rPr b="0" lang="en-US" sz="1800" spc="-1" strike="noStrike" u="sng">
                <a:solidFill>
                  <a:srgbClr val="996600"/>
                </a:solidFill>
                <a:uFillTx/>
                <a:latin typeface="Arial"/>
                <a:hlinkClick r:id="rId2"/>
              </a:rPr>
              <a:t>Web 2.0 Meme M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335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s Web 2.0?</a:t>
            </a:r>
            <a:endParaRPr b="0" lang="en-US" sz="4200" spc="-1" strike="noStrike">
              <a:solidFill>
                <a:srgbClr val="006633"/>
              </a:solidFill>
              <a:latin typeface="Garamond"/>
            </a:endParaRPr>
          </a:p>
        </p:txBody>
      </p:sp>
      <p:sp>
        <p:nvSpPr>
          <p:cNvPr id="99" name="PlaceHolder 2"/>
          <p:cNvSpPr>
            <a:spLocks noGrp="1"/>
          </p:cNvSpPr>
          <p:nvPr>
            <p:ph/>
          </p:nvPr>
        </p:nvSpPr>
        <p:spPr>
          <a:xfrm>
            <a:off x="1828800" y="190476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The Machine is Us/ing Us </a:t>
            </a:r>
            <a:r>
              <a:rPr b="0" lang="en-US" sz="3000" spc="-1" strike="noStrike">
                <a:solidFill>
                  <a:srgbClr val="000000"/>
                </a:solidFill>
                <a:latin typeface="Arial"/>
              </a:rPr>
              <a:t>(desktop)</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 name="Rectangle 5"/>
          <p:cNvSpPr/>
          <p:nvPr/>
        </p:nvSpPr>
        <p:spPr>
          <a:xfrm>
            <a:off x="1828800" y="190512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2"/>
              </a:rPr>
              <a:t>Shift Happens </a:t>
            </a:r>
            <a:r>
              <a:rPr b="0" lang="en-US" sz="3000" spc="-1" strike="noStrike">
                <a:solidFill>
                  <a:srgbClr val="000000"/>
                </a:solidFill>
                <a:latin typeface="Arial"/>
              </a:rPr>
              <a:t>(deskto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tional Uses of Blogs</a:t>
            </a:r>
            <a:endParaRPr b="0" lang="en-US" sz="4200" spc="-1" strike="noStrike">
              <a:solidFill>
                <a:srgbClr val="006633"/>
              </a:solidFill>
              <a:latin typeface="Garamond"/>
            </a:endParaRPr>
          </a:p>
        </p:txBody>
      </p:sp>
      <p:sp>
        <p:nvSpPr>
          <p:cNvPr id="102" name="PlaceHolder 2"/>
          <p:cNvSpPr>
            <a:spLocks noGrp="1"/>
          </p:cNvSpPr>
          <p:nvPr>
            <p:ph/>
          </p:nvPr>
        </p:nvSpPr>
        <p:spPr>
          <a:xfrm>
            <a:off x="0" y="1904760"/>
            <a:ext cx="8229600" cy="453060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996600"/>
                </a:solidFill>
                <a:uFillTx/>
                <a:latin typeface="Arial"/>
                <a:hlinkClick r:id="rId1"/>
              </a:rPr>
              <a:t>Kathy Schrock</a:t>
            </a:r>
            <a:br>
              <a:rPr sz="3000"/>
            </a:b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2"/>
              </a:rPr>
              <a:t> Doug Johnson </a:t>
            </a:r>
            <a:r>
              <a:rPr b="0" lang="en-US" sz="3000" spc="-1" strike="noStrike">
                <a:solidFill>
                  <a:srgbClr val="997300"/>
                </a:solidFill>
                <a:latin typeface="Arial"/>
              </a:rPr>
              <a:t>(21</a:t>
            </a:r>
            <a:r>
              <a:rPr b="0" lang="en-US" sz="3000" spc="-1" strike="noStrike" baseline="30000">
                <a:solidFill>
                  <a:srgbClr val="997300"/>
                </a:solidFill>
                <a:latin typeface="Arial"/>
              </a:rPr>
              <a:t>st</a:t>
            </a:r>
            <a:r>
              <a:rPr b="0" lang="en-US" sz="3000" spc="-1" strike="noStrike">
                <a:solidFill>
                  <a:srgbClr val="997300"/>
                </a:solidFill>
                <a:latin typeface="Arial"/>
              </a:rPr>
              <a:t> Century Education)</a:t>
            </a:r>
            <a:r>
              <a:rPr b="0" lang="en-US" sz="3000" spc="-1" strike="noStrike">
                <a:solidFill>
                  <a:srgbClr val="000000"/>
                </a:solidFill>
                <a:latin typeface="Arial"/>
              </a:rPr>
              <a:t>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3"/>
              </a:rPr>
              <a:t>Educational Blogs</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ikis</a:t>
            </a:r>
            <a:endParaRPr b="0" lang="en-US" sz="4200" spc="-1" strike="noStrike">
              <a:solidFill>
                <a:srgbClr val="006633"/>
              </a:solidFill>
              <a:latin typeface="Garamond"/>
            </a:endParaRPr>
          </a:p>
        </p:txBody>
      </p:sp>
      <p:sp>
        <p:nvSpPr>
          <p:cNvPr id="104" name="PlaceHolder 2"/>
          <p:cNvSpPr>
            <a:spLocks noGrp="1"/>
          </p:cNvSpPr>
          <p:nvPr>
            <p:ph/>
          </p:nvPr>
        </p:nvSpPr>
        <p:spPr>
          <a:xfrm>
            <a:off x="1676160" y="1371240"/>
            <a:ext cx="56386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wik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 video from deskto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Wikipedi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2"/>
              </a:rPr>
              <a:t>Educational Wiki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3"/>
              </a:rPr>
              <a:t>50 Ways to Tell a Stor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dcasting</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est way to understand podcasting is to imagine a merger between blogging and radio which is syndicated; you can get regularly scheduled downloads in RS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casting is essentially radio programming that can be produced with a standard computer, microphone, free software, and a web site for posting your programming.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Podcast Example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2"/>
              </a:rPr>
              <a:t>Podcasting and Educ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SS ( Really Simple Syndication)</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Blogs and Wiki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e a Google accoun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gn I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 an RSS feed ( a subscription to a blog or podcast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on Add a Subscrip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 in Educa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Subscribe to one of the websites or podcasts.</a:t>
            </a:r>
            <a:endParaRPr b="0" lang="en-US" sz="3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acher Tube</a:t>
            </a:r>
            <a:endParaRPr b="0" lang="en-US" sz="4200" spc="-1" strike="noStrike">
              <a:solidFill>
                <a:srgbClr val="006633"/>
              </a:solidFill>
              <a:latin typeface="Garamond"/>
            </a:endParaRPr>
          </a:p>
        </p:txBody>
      </p:sp>
      <p:sp>
        <p:nvSpPr>
          <p:cNvPr id="110" name="PlaceHolder 2"/>
          <p:cNvSpPr>
            <a:spLocks noGrp="1"/>
          </p:cNvSpPr>
          <p:nvPr>
            <p:ph/>
          </p:nvPr>
        </p:nvSpPr>
        <p:spPr>
          <a:xfrm>
            <a:off x="1676520" y="167616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www.teachertube.c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2"/>
              </a:rPr>
              <a:t>Multiplying Fr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3"/>
              </a:rPr>
              <a:t>A French Love Story</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14:42:22Z</dcterms:created>
  <dc:creator>Cindy DiDonato</dc:creator>
  <dc:description/>
  <dc:language>en-US</dc:language>
  <cp:lastModifiedBy>Cindy DiDonato</cp:lastModifiedBy>
  <dcterms:modified xsi:type="dcterms:W3CDTF">2010-02-21T20:45:04Z</dcterms:modified>
  <cp:revision>78</cp:revision>
  <dc:subject/>
  <dc:title>Web 2.0</dc:title>
</cp:coreProperties>
</file>